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EC8-CFC3-491C-A34F-1EE44394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F23-D3F9-488D-9455-8811FB0C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E65-33A2-4728-980F-A3F2B180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DA7-8F9B-45F7-A77E-3C5A9862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CF1-E91C-4C23-9853-A61B8A89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C796-21E6-4997-944F-6C6D3D7B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A62-D848-498C-93C9-AE29E6E7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7908-2755-4831-8FE9-695AAF4A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9D1-7C63-4DFF-8BA7-A6E54D7E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1B2-6603-4C3F-B2E9-DC7EA190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99F-7640-4641-B65C-390C4829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78D-401B-4523-9A39-A7F087EB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233A-9ADB-473D-A5FF-42E6697E3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queensburyschool.org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toothpastefordinner.com/" TargetMode="External"/><Relationship Id="rId2" Type="http://schemas.openxmlformats.org/officeDocument/2006/relationships/hyperlink" Target="http://www.43things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1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Century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gital Literacy 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y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domain name fac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228600" y="6356520"/>
            <a:ext cx="8763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ource: http://www.yafla.com/dennisforbes/Interesting-Facts-About-Domain-Names/Interesting-Facts-About-Domain-Nam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9"/>
          <p:cNvGrpSpPr/>
          <p:nvPr/>
        </p:nvGrpSpPr>
        <p:grpSpPr>
          <a:xfrm>
            <a:off x="228600" y="1676520"/>
            <a:ext cx="4071960" cy="4147560"/>
            <a:chOff x="228600" y="1676520"/>
            <a:chExt cx="4071960" cy="4147560"/>
          </a:xfrm>
        </p:grpSpPr>
        <p:pic>
          <p:nvPicPr>
            <p:cNvPr id="97" name="Picture 2" descr="http://www.yafla.com/dforbes/images/domains_registered_letter_sequences.gif"/>
            <p:cNvPicPr/>
            <p:nvPr/>
          </p:nvPicPr>
          <p:blipFill>
            <a:blip r:embed="rId1"/>
            <a:stretch/>
          </p:blipFill>
          <p:spPr>
            <a:xfrm>
              <a:off x="228600" y="1676520"/>
              <a:ext cx="4071960" cy="28195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98" name="TextBox 7"/>
            <p:cNvSpPr/>
            <p:nvPr/>
          </p:nvSpPr>
          <p:spPr>
            <a:xfrm>
              <a:off x="457200" y="4876920"/>
              <a:ext cx="3429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alibri"/>
                </a:rPr>
                <a:t>ALL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2 and 3 letter domains are taken!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0"/>
          <p:cNvGrpSpPr/>
          <p:nvPr/>
        </p:nvGrpSpPr>
        <p:grpSpPr>
          <a:xfrm>
            <a:off x="4495680" y="1447920"/>
            <a:ext cx="4191120" cy="4696200"/>
            <a:chOff x="4495680" y="1447920"/>
            <a:chExt cx="4191120" cy="4696200"/>
          </a:xfrm>
        </p:grpSpPr>
        <p:pic>
          <p:nvPicPr>
            <p:cNvPr id="100" name="Picture 4" descr="http://www.yafla.com/dforbes/images/domains_registered_length.gif"/>
            <p:cNvPicPr/>
            <p:nvPr/>
          </p:nvPicPr>
          <p:blipFill>
            <a:blip r:embed="rId2"/>
            <a:stretch/>
          </p:blipFill>
          <p:spPr>
            <a:xfrm>
              <a:off x="4495680" y="1447920"/>
              <a:ext cx="4191120" cy="33814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101" name="TextBox 8"/>
            <p:cNvSpPr/>
            <p:nvPr/>
          </p:nvSpPr>
          <p:spPr>
            <a:xfrm>
              <a:off x="4571640" y="4952880"/>
              <a:ext cx="403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Calibri"/>
                </a:rPr>
                <a:t>MOST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domain names have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1 characte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(letters and number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76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nk about everything you’ve learned about domain names today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 a domain name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Represents y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its the parameters of a domain n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Is appropri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eck www.godaddy.com to make sure the domain name hasn’t already been us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mit your personal domain name as a comment on my blog so that we can share them with each other!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n you identify thes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ople, places, or symbols?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Group 14"/>
          <p:cNvGrpSpPr/>
          <p:nvPr/>
        </p:nvGrpSpPr>
        <p:grpSpPr>
          <a:xfrm>
            <a:off x="228600" y="2133720"/>
            <a:ext cx="2184480" cy="1676160"/>
            <a:chOff x="228600" y="2133720"/>
            <a:chExt cx="2184480" cy="1676160"/>
          </a:xfrm>
        </p:grpSpPr>
        <p:pic>
          <p:nvPicPr>
            <p:cNvPr id="45" name="Picture 2" descr="http://www.sunglasstent.com/images/NikeSwooshRed.jpg"/>
            <p:cNvPicPr/>
            <p:nvPr/>
          </p:nvPicPr>
          <p:blipFill>
            <a:blip r:embed="rId1"/>
            <a:stretch/>
          </p:blipFill>
          <p:spPr>
            <a:xfrm>
              <a:off x="380880" y="2286000"/>
              <a:ext cx="2032200" cy="15238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46" name="8-Point Star 8"/>
            <p:cNvSpPr/>
            <p:nvPr/>
          </p:nvSpPr>
          <p:spPr>
            <a:xfrm>
              <a:off x="228600" y="213372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Group 19"/>
          <p:cNvGrpSpPr/>
          <p:nvPr/>
        </p:nvGrpSpPr>
        <p:grpSpPr>
          <a:xfrm>
            <a:off x="6324480" y="4419720"/>
            <a:ext cx="2463840" cy="2133360"/>
            <a:chOff x="6324480" y="4419720"/>
            <a:chExt cx="2463840" cy="2133360"/>
          </a:xfrm>
        </p:grpSpPr>
        <p:pic>
          <p:nvPicPr>
            <p:cNvPr id="48" name="Picture 10" descr="http://www.wstm.tv/uploadedImages/wstm/Sports/Stories/SUathletics.jpg"/>
            <p:cNvPicPr/>
            <p:nvPr/>
          </p:nvPicPr>
          <p:blipFill>
            <a:blip r:embed="rId2"/>
            <a:stretch/>
          </p:blipFill>
          <p:spPr>
            <a:xfrm>
              <a:off x="6476760" y="4572000"/>
              <a:ext cx="2311560" cy="19810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49" name="8-Point Star 9"/>
            <p:cNvSpPr/>
            <p:nvPr/>
          </p:nvSpPr>
          <p:spPr>
            <a:xfrm>
              <a:off x="6324480" y="441972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" name="Group 18"/>
          <p:cNvGrpSpPr/>
          <p:nvPr/>
        </p:nvGrpSpPr>
        <p:grpSpPr>
          <a:xfrm>
            <a:off x="2666880" y="4267080"/>
            <a:ext cx="3346560" cy="2210040"/>
            <a:chOff x="2666880" y="4267080"/>
            <a:chExt cx="3346560" cy="2210040"/>
          </a:xfrm>
        </p:grpSpPr>
        <p:pic>
          <p:nvPicPr>
            <p:cNvPr id="51" name="Picture 8" descr="http://cache.eb.com/eb/image?id=94185&amp;rendTypeId=4"/>
            <p:cNvPicPr/>
            <p:nvPr/>
          </p:nvPicPr>
          <p:blipFill>
            <a:blip r:embed="rId3"/>
            <a:stretch/>
          </p:blipFill>
          <p:spPr>
            <a:xfrm>
              <a:off x="2895480" y="4419360"/>
              <a:ext cx="3117960" cy="20577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52" name="8-Point Star 10"/>
            <p:cNvSpPr/>
            <p:nvPr/>
          </p:nvSpPr>
          <p:spPr>
            <a:xfrm>
              <a:off x="2666880" y="426708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17"/>
          <p:cNvGrpSpPr/>
          <p:nvPr/>
        </p:nvGrpSpPr>
        <p:grpSpPr>
          <a:xfrm>
            <a:off x="304920" y="4343400"/>
            <a:ext cx="1981080" cy="1981080"/>
            <a:chOff x="304920" y="4343400"/>
            <a:chExt cx="1981080" cy="1981080"/>
          </a:xfrm>
        </p:grpSpPr>
        <p:pic>
          <p:nvPicPr>
            <p:cNvPr id="54" name="Picture 6" descr="http://postbulletin.typepad.com/kiger/images/target_1.jpg"/>
            <p:cNvPicPr/>
            <p:nvPr/>
          </p:nvPicPr>
          <p:blipFill>
            <a:blip r:embed="rId4"/>
            <a:stretch/>
          </p:blipFill>
          <p:spPr>
            <a:xfrm>
              <a:off x="533520" y="4572000"/>
              <a:ext cx="1752480" cy="17524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55" name="8-Point Star 11"/>
            <p:cNvSpPr/>
            <p:nvPr/>
          </p:nvSpPr>
          <p:spPr>
            <a:xfrm>
              <a:off x="304920" y="434340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6"/>
          <p:cNvGrpSpPr/>
          <p:nvPr/>
        </p:nvGrpSpPr>
        <p:grpSpPr>
          <a:xfrm>
            <a:off x="5943600" y="1600200"/>
            <a:ext cx="2449440" cy="2747520"/>
            <a:chOff x="5943600" y="1600200"/>
            <a:chExt cx="2449440" cy="2747520"/>
          </a:xfrm>
        </p:grpSpPr>
        <p:pic>
          <p:nvPicPr>
            <p:cNvPr id="57" name="Picture 4" descr="http://www.telegraph.co.uk/telegraph/multimedia/archive/00790/phelps3reut_790070c.jpg"/>
            <p:cNvPicPr/>
            <p:nvPr/>
          </p:nvPicPr>
          <p:blipFill>
            <a:blip r:embed="rId5"/>
            <a:stretch/>
          </p:blipFill>
          <p:spPr>
            <a:xfrm rot="18058800">
              <a:off x="6003720" y="2244240"/>
              <a:ext cx="2328840" cy="14587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58" name="8-Point Star 12"/>
            <p:cNvSpPr/>
            <p:nvPr/>
          </p:nvSpPr>
          <p:spPr>
            <a:xfrm>
              <a:off x="6172200" y="2666880"/>
              <a:ext cx="380880" cy="45684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6840"/>
                <a:gd name="textAreaBottom" fmla="*/ 34956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5"/>
          <p:cNvGrpSpPr/>
          <p:nvPr/>
        </p:nvGrpSpPr>
        <p:grpSpPr>
          <a:xfrm>
            <a:off x="3124080" y="1828800"/>
            <a:ext cx="1886040" cy="2209680"/>
            <a:chOff x="3124080" y="1828800"/>
            <a:chExt cx="1886040" cy="2209680"/>
          </a:xfrm>
        </p:grpSpPr>
        <p:pic>
          <p:nvPicPr>
            <p:cNvPr id="60" name="Picture 2" descr="http://prayerwarriors.files.wordpress.com/2008/04/oprah-winfrey.jpg"/>
            <p:cNvPicPr/>
            <p:nvPr/>
          </p:nvPicPr>
          <p:blipFill>
            <a:blip r:embed="rId6"/>
            <a:stretch/>
          </p:blipFill>
          <p:spPr>
            <a:xfrm>
              <a:off x="3352680" y="2057400"/>
              <a:ext cx="1657440" cy="19810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61" name="8-Point Star 13"/>
            <p:cNvSpPr/>
            <p:nvPr/>
          </p:nvSpPr>
          <p:spPr>
            <a:xfrm>
              <a:off x="3124080" y="1828800"/>
              <a:ext cx="380880" cy="457200"/>
            </a:xfrm>
            <a:custGeom>
              <a:avLst/>
              <a:gdLst>
                <a:gd name="textAreaLeft" fmla="*/ 89280 w 380880"/>
                <a:gd name="textAreaRight" fmla="*/ 291600 w 380880"/>
                <a:gd name="textAreaTop" fmla="*/ 107280 h 457200"/>
                <a:gd name="textAreaBottom" fmla="*/ 349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Picture Placeholder 4"/>
          <p:cNvGrpSpPr/>
          <p:nvPr/>
        </p:nvGrpSpPr>
        <p:grpSpPr>
          <a:xfrm>
            <a:off x="1792440" y="612720"/>
            <a:ext cx="5486400" cy="4114800"/>
            <a:chOff x="1792440" y="612720"/>
            <a:chExt cx="5486400" cy="4114800"/>
          </a:xfrm>
        </p:grpSpPr>
        <p:pic>
          <p:nvPicPr>
            <p:cNvPr id="65" name="Picture 2" descr="http://www.sunglasstent.com/images/NikeSwooshRed.jpg"/>
            <p:cNvPicPr/>
            <p:nvPr/>
          </p:nvPicPr>
          <p:blipFill>
            <a:blip r:embed="rId2"/>
            <a:stretch/>
          </p:blipFill>
          <p:spPr>
            <a:xfrm>
              <a:off x="2175120" y="986760"/>
              <a:ext cx="5103720" cy="37407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66" name="8-Point Star 6"/>
            <p:cNvSpPr/>
            <p:nvPr/>
          </p:nvSpPr>
          <p:spPr>
            <a:xfrm>
              <a:off x="1792440" y="612720"/>
              <a:ext cx="956880" cy="1122120"/>
            </a:xfrm>
            <a:custGeom>
              <a:avLst/>
              <a:gdLst>
                <a:gd name="textAreaLeft" fmla="*/ 224640 w 956880"/>
                <a:gd name="textAreaRight" fmla="*/ 732240 w 956880"/>
                <a:gd name="textAreaTop" fmla="*/ 263520 h 1122120"/>
                <a:gd name="textAreaBottom" fmla="*/ 858600 h 11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prah Winfr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Picture Placeholder 5"/>
          <p:cNvGrpSpPr/>
          <p:nvPr/>
        </p:nvGrpSpPr>
        <p:grpSpPr>
          <a:xfrm>
            <a:off x="2362320" y="685800"/>
            <a:ext cx="3581280" cy="4114800"/>
            <a:chOff x="2362320" y="685800"/>
            <a:chExt cx="3581280" cy="4114800"/>
          </a:xfrm>
        </p:grpSpPr>
        <p:pic>
          <p:nvPicPr>
            <p:cNvPr id="70" name="Picture 6" descr="http://prayerwarriors.files.wordpress.com/2008/04/oprah-winfrey.jpg"/>
            <p:cNvPicPr/>
            <p:nvPr/>
          </p:nvPicPr>
          <p:blipFill>
            <a:blip r:embed="rId2"/>
            <a:stretch/>
          </p:blipFill>
          <p:spPr>
            <a:xfrm>
              <a:off x="2796480" y="1111320"/>
              <a:ext cx="3147120" cy="368928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71" name="8-Point Star 7"/>
            <p:cNvSpPr/>
            <p:nvPr/>
          </p:nvSpPr>
          <p:spPr>
            <a:xfrm>
              <a:off x="2362320" y="685800"/>
              <a:ext cx="723600" cy="851400"/>
            </a:xfrm>
            <a:custGeom>
              <a:avLst/>
              <a:gdLst>
                <a:gd name="textAreaLeft" fmla="*/ 169920 w 723600"/>
                <a:gd name="textAreaRight" fmla="*/ 553680 w 723600"/>
                <a:gd name="textAreaTop" fmla="*/ 199800 h 851400"/>
                <a:gd name="textAreaBottom" fmla="*/ 65160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chael Phel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7"/>
          <p:cNvGrpSpPr/>
          <p:nvPr/>
        </p:nvGrpSpPr>
        <p:grpSpPr>
          <a:xfrm>
            <a:off x="2557080" y="699120"/>
            <a:ext cx="3493080" cy="3935160"/>
            <a:chOff x="2557080" y="699120"/>
            <a:chExt cx="3493080" cy="3935160"/>
          </a:xfrm>
        </p:grpSpPr>
        <p:pic>
          <p:nvPicPr>
            <p:cNvPr id="75" name="Picture 4" descr="http://www.telegraph.co.uk/telegraph/multimedia/archive/00790/phelps3reut_790070c.jpg"/>
            <p:cNvPicPr/>
            <p:nvPr/>
          </p:nvPicPr>
          <p:blipFill>
            <a:blip r:embed="rId2"/>
            <a:stretch/>
          </p:blipFill>
          <p:spPr>
            <a:xfrm rot="18058800">
              <a:off x="2626920" y="1635840"/>
              <a:ext cx="3352680" cy="206136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76" name="8-Point Star 9"/>
            <p:cNvSpPr/>
            <p:nvPr/>
          </p:nvSpPr>
          <p:spPr>
            <a:xfrm>
              <a:off x="2895480" y="2224800"/>
              <a:ext cx="538200" cy="657720"/>
            </a:xfrm>
            <a:custGeom>
              <a:avLst/>
              <a:gdLst>
                <a:gd name="textAreaLeft" fmla="*/ 126360 w 538200"/>
                <a:gd name="textAreaRight" fmla="*/ 411840 w 538200"/>
                <a:gd name="textAreaTop" fmla="*/ 154440 h 657720"/>
                <a:gd name="textAreaBottom" fmla="*/ 503280 h 65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 5"/>
          <p:cNvGrpSpPr/>
          <p:nvPr/>
        </p:nvGrpSpPr>
        <p:grpSpPr>
          <a:xfrm>
            <a:off x="2133720" y="533520"/>
            <a:ext cx="3886200" cy="3733560"/>
            <a:chOff x="2133720" y="533520"/>
            <a:chExt cx="3886200" cy="3733560"/>
          </a:xfrm>
        </p:grpSpPr>
        <p:pic>
          <p:nvPicPr>
            <p:cNvPr id="80" name="Picture 6" descr="http://postbulletin.typepad.com/kiger/images/target_1.jpg"/>
            <p:cNvPicPr/>
            <p:nvPr/>
          </p:nvPicPr>
          <p:blipFill>
            <a:blip r:embed="rId2"/>
            <a:stretch/>
          </p:blipFill>
          <p:spPr>
            <a:xfrm>
              <a:off x="2581920" y="964080"/>
              <a:ext cx="3438000" cy="33030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81" name="8-Point Star 7"/>
            <p:cNvSpPr/>
            <p:nvPr/>
          </p:nvSpPr>
          <p:spPr>
            <a:xfrm>
              <a:off x="2133720" y="533520"/>
              <a:ext cx="747360" cy="861480"/>
            </a:xfrm>
            <a:custGeom>
              <a:avLst/>
              <a:gdLst>
                <a:gd name="textAreaLeft" fmla="*/ 175320 w 747360"/>
                <a:gd name="textAreaRight" fmla="*/ 572040 w 747360"/>
                <a:gd name="textAreaTop" fmla="*/ 202320 h 861480"/>
                <a:gd name="textAreaBottom" fmla="*/ 659160 h 86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Penta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Picture Placeholder 4"/>
          <p:cNvGrpSpPr/>
          <p:nvPr/>
        </p:nvGrpSpPr>
        <p:grpSpPr>
          <a:xfrm>
            <a:off x="1792440" y="612720"/>
            <a:ext cx="5486400" cy="4114800"/>
            <a:chOff x="1792440" y="612720"/>
            <a:chExt cx="5486400" cy="4114800"/>
          </a:xfrm>
        </p:grpSpPr>
        <p:pic>
          <p:nvPicPr>
            <p:cNvPr id="85" name="Picture 8" descr="http://cache.eb.com/eb/image?id=94185&amp;rendTypeId=4"/>
            <p:cNvPicPr/>
            <p:nvPr/>
          </p:nvPicPr>
          <p:blipFill>
            <a:blip r:embed="rId2"/>
            <a:stretch/>
          </p:blipFill>
          <p:spPr>
            <a:xfrm>
              <a:off x="2167200" y="896400"/>
              <a:ext cx="5111640" cy="383112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86" name="8-Point Star 6"/>
            <p:cNvSpPr/>
            <p:nvPr/>
          </p:nvSpPr>
          <p:spPr>
            <a:xfrm>
              <a:off x="1792440" y="612720"/>
              <a:ext cx="624600" cy="851400"/>
            </a:xfrm>
            <a:custGeom>
              <a:avLst/>
              <a:gdLst>
                <a:gd name="textAreaLeft" fmla="*/ 146520 w 624600"/>
                <a:gd name="textAreaRight" fmla="*/ 478080 w 624600"/>
                <a:gd name="textAreaTop" fmla="*/ 199800 h 851400"/>
                <a:gd name="textAreaBottom" fmla="*/ 651600 h 85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yracuse Univer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lick here to test the UR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1981080" y="762120"/>
            <a:ext cx="4648320" cy="3657600"/>
            <a:chOff x="1981080" y="762120"/>
            <a:chExt cx="4648320" cy="3657600"/>
          </a:xfrm>
        </p:grpSpPr>
        <p:pic>
          <p:nvPicPr>
            <p:cNvPr id="90" name="Picture 10" descr="http://www.wstm.tv/uploadedImages/wstm/Sports/Stories/SUathletics.jpg"/>
            <p:cNvPicPr/>
            <p:nvPr/>
          </p:nvPicPr>
          <p:blipFill>
            <a:blip r:embed="rId2"/>
            <a:stretch/>
          </p:blipFill>
          <p:spPr>
            <a:xfrm>
              <a:off x="2268360" y="1023120"/>
              <a:ext cx="4361040" cy="3396600"/>
            </a:xfrm>
            <a:prstGeom prst="rect">
              <a:avLst/>
            </a:prstGeom>
            <a:ln cap="sq" w="38160">
              <a:solidFill>
                <a:srgbClr val="000000"/>
              </a:solidFill>
              <a:miter/>
            </a:ln>
            <a:effectLst>
              <a:outerShdw dist="38183" dir="2700000" blurRad="0" rotWithShape="0">
                <a:srgbClr val="000000">
                  <a:alpha val="43000"/>
                </a:srgbClr>
              </a:outerShdw>
            </a:effectLst>
          </p:spPr>
        </p:pic>
        <p:sp>
          <p:nvSpPr>
            <p:cNvPr id="91" name="8-Point Star 6"/>
            <p:cNvSpPr/>
            <p:nvPr/>
          </p:nvSpPr>
          <p:spPr>
            <a:xfrm>
              <a:off x="1981080" y="762120"/>
              <a:ext cx="718560" cy="783720"/>
            </a:xfrm>
            <a:custGeom>
              <a:avLst/>
              <a:gdLst>
                <a:gd name="textAreaLeft" fmla="*/ 168480 w 718560"/>
                <a:gd name="textAreaRight" fmla="*/ 550080 w 718560"/>
                <a:gd name="textAreaTop" fmla="*/ 183960 h 783720"/>
                <a:gd name="textAreaBottom" fmla="*/ 59976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290" y="13834"/>
                  </a:lnTo>
                  <a:lnTo>
                    <a:pt x="3163" y="18437"/>
                  </a:lnTo>
                  <a:lnTo>
                    <a:pt x="7635" y="18256"/>
                  </a:lnTo>
                  <a:lnTo>
                    <a:pt x="10800" y="21600"/>
                  </a:lnTo>
                  <a:lnTo>
                    <a:pt x="13834" y="18310"/>
                  </a:lnTo>
                  <a:lnTo>
                    <a:pt x="18437" y="18437"/>
                  </a:lnTo>
                  <a:lnTo>
                    <a:pt x="18256" y="13965"/>
                  </a:lnTo>
                  <a:lnTo>
                    <a:pt x="21600" y="10800"/>
                  </a:lnTo>
                  <a:lnTo>
                    <a:pt x="18310" y="7766"/>
                  </a:lnTo>
                  <a:lnTo>
                    <a:pt x="18437" y="3163"/>
                  </a:lnTo>
                  <a:lnTo>
                    <a:pt x="13965" y="3344"/>
                  </a:lnTo>
                  <a:lnTo>
                    <a:pt x="10800" y="0"/>
                  </a:lnTo>
                  <a:lnTo>
                    <a:pt x="7766" y="3290"/>
                  </a:lnTo>
                  <a:lnTo>
                    <a:pt x="3163" y="3163"/>
                  </a:lnTo>
                  <a:lnTo>
                    <a:pt x="3344" y="763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REAL Exampl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main Na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toothpastefordinner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43thing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funbrain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curiousmath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soccercommercial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bcdefghijklmnopqrstuvwxyzabcdefghijklmnopqrstuvwxyzabcdefghijk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g.c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7:23:59Z</dcterms:created>
  <dc:creator>cclancy</dc:creator>
  <dc:description/>
  <dc:language>en-US</dc:language>
  <cp:lastModifiedBy>cclancy</cp:lastModifiedBy>
  <dcterms:modified xsi:type="dcterms:W3CDTF">2008-09-22T19:45:33Z</dcterms:modified>
  <cp:revision>15</cp:revision>
  <dc:subject/>
  <dc:title>Domain Names</dc:title>
</cp:coreProperties>
</file>